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2980"/>
        <c:axId val="4324761"/>
      </c:barChart>
      <c:catAx>
        <c:axId val="1922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4761"/>
        <c:crosses val="autoZero"/>
        <c:auto val="1"/>
        <c:lblAlgn val="ctr"/>
        <c:lblOffset val="100"/>
        <c:noMultiLvlLbl val="0"/>
      </c:catAx>
      <c:valAx>
        <c:axId val="4324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2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04D-B1D2-4648-907B-229BA44E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348-89A3-43F8-A352-ED25B23C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1CE-C203-4A60-94C0-6054C665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578-B71B-4BA8-8E63-E67453E4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272-14AC-41F1-BFDB-F78CF6A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C0E-5E67-4212-83FA-4F5F6E4A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59C-836B-4F56-A5BF-879CC786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030-B372-4A44-B0E4-24DB917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286-E573-4D19-B2B7-9180942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FEA-7066-4C66-A7D7-EC8137A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CE4-1C89-4CB4-8ED0-D14444A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9A2-B670-446B-A8A1-1E6B7584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397DC-A37A-4E8C-9C98-E58647B13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