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84461"/>
        <c:axId val="5248795"/>
      </c:barChart>
      <c:catAx>
        <c:axId val="62184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795"/>
        <c:crosses val="autoZero"/>
        <c:auto val="1"/>
        <c:lblAlgn val="ctr"/>
        <c:lblOffset val="100"/>
        <c:noMultiLvlLbl val="0"/>
      </c:catAx>
      <c:valAx>
        <c:axId val="5248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4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E88-F28A-4484-BABC-E503F58D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349-0E31-40BF-8FE3-EC7D42E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953-D403-493E-8710-135A9A84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548-81DB-4474-A45A-80992043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850-0893-4FC6-B30B-F0CE92AE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764-E095-4A62-B26D-F02334D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EE2-2259-4553-A1EC-4E3413B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7BB-8942-4B63-8DB3-6CE0A8D9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B81-20F1-49FB-A397-A5675A9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01B-9D5E-439B-90AA-84A26FC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585-966A-4D39-BA58-34ED940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658-2611-4A7F-A868-0363EA33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62EE7-3BFC-415C-83DF-0A9CD436F8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